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CE3-216F-461E-92E7-C78E6929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BCB-AF25-4E17-A58E-45D538A9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AD0-D706-4625-8A43-5DF541AD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E18-A435-48B3-B2BC-3184E91E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441D-3BF2-466F-95E8-C3237E6C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8B26-5AD7-4A0A-813E-ACD06F84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5A19-0E18-47EA-A14E-30D21B6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EA49-3369-4B80-9677-6141DA0A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3DF2-68B4-4BB0-A04F-7DD27168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C8D4-AF24-4E0A-9AA2-DAC9A57B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6437-034D-48F0-A5ED-39E1C87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333-3D2C-4006-948B-AC66A11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712C-990B-41DF-AA7C-4CADC85D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DEEC-12C7-4A37-A8DB-9DDB5159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CDF6-2E1D-4852-A40D-62555FBA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6C26-A112-4E27-88A4-2F2C28EF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4A2E-9DFC-4766-B5F3-18325381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302-C42D-4B83-874F-8A49C9CD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6FC-F622-442B-9DF1-831D6FD5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411-78F9-4A51-B175-836AF4B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CDD-CDF4-496E-8482-142D9B55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88D-FCBE-4EE4-B960-3814B976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14A-125F-4864-B312-477A1CC2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939-CC3D-46F9-86A4-9551807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3903-7796-455E-BF43-3EAF185E188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A6C-70CF-4704-B419-F18A61EE0B2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25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50aec"/>
                </a:solidFill>
                <a:latin typeface="Gill Sans Ultra Bold"/>
              </a:rPr>
              <a:t>Perché vediamo il riflesso della luce nella bolla?</a:t>
            </a:r>
            <a:r>
              <a:rPr b="1" lang="it-IT" sz="3500" spc="-1" strike="noStrike">
                <a:solidFill>
                  <a:srgbClr val="669999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9" descr="y1py_nZzfev1fMRq_XobTdfaIPDYkPG8dgTvIaMlS1mXkIa0qPgw_uNwIdWcjuyRVIST7v0zP75hF4"/>
          <p:cNvPicPr/>
          <p:nvPr/>
        </p:nvPicPr>
        <p:blipFill>
          <a:blip r:embed="rId1"/>
          <a:stretch/>
        </p:blipFill>
        <p:spPr>
          <a:xfrm>
            <a:off x="250920" y="1557360"/>
            <a:ext cx="6481800" cy="507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6804000" y="3789360"/>
            <a:ext cx="2163960" cy="2865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2.77457E-006 L -8.33333E-007 2.77457E-006 E">
                                      <p:cBhvr>
                                        <p:cTn id="1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08000" y="26028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50aec"/>
                </a:solidFill>
                <a:latin typeface="Arial"/>
              </a:rPr>
              <a:t>Dipende prima di tutto dallo spessore della b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564000" y="1989000"/>
            <a:ext cx="4968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50aec"/>
                </a:solidFill>
                <a:latin typeface="Arial"/>
              </a:rPr>
              <a:t>La luce incontra la bolla e alcuni raggi vengono riflessi dalla superficie a contatto con l’aria,cioè es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5280" y="4005360"/>
            <a:ext cx="44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50aec"/>
                </a:solidFill>
                <a:latin typeface="Arial"/>
              </a:rPr>
              <a:t>Altri entrano all’interno della bolla e vengono riflessi solo che hanno avuto una deviazione da parte dello spessore della b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 rot="21463800">
            <a:off x="394920" y="620280"/>
            <a:ext cx="1866960" cy="3210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2"/>
          <a:stretch/>
        </p:blipFill>
        <p:spPr>
          <a:xfrm rot="288600">
            <a:off x="6659640" y="4221000"/>
            <a:ext cx="144288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3141360"/>
            <a:ext cx="460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Gill Sans Ultra Bold"/>
              </a:rPr>
              <a:t>Queste riflessioni scontrandosi creano il riflesso della luce nella b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0066"/>
                </a:solidFill>
                <a:latin typeface="Gill Sans Ultra Bold"/>
              </a:rPr>
              <a:t>Lo scontro delle riflessioni dipende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39640" y="177336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Dallo</a:t>
            </a:r>
            <a:r>
              <a:rPr b="0" lang="it-IT" sz="18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spessore della b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500720" y="5013360"/>
            <a:ext cx="295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Dalla lunghezza d’o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003640" y="2637000"/>
            <a:ext cx="3600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Dall’ angolo con cui la luce incide sullo spessore. (iridescen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1367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324000" y="293760"/>
            <a:ext cx="8496000" cy="6230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ff"/>
                </a:solidFill>
                <a:latin typeface="Gill Sans Ultra Bold"/>
              </a:rPr>
              <a:t>E perchè la bolla ha tutti questi colori se la luce che la illumina è bianca??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979640" y="5229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ché la luce bianca,e quindi anche quella solare,ha dentro di se tutti i colori della bol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0066"/>
                </a:solidFill>
                <a:latin typeface="Gill Sans Ultra Bold"/>
              </a:rPr>
              <a:t>Ciao Ragazzi!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Ambra Domen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Mery Ric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sellaDiTesto 4"/>
          <p:cNvSpPr/>
          <p:nvPr/>
        </p:nvSpPr>
        <p:spPr>
          <a:xfrm>
            <a:off x="5580000" y="3068640"/>
            <a:ext cx="252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sellaDiTesto 5"/>
          <p:cNvSpPr/>
          <p:nvPr/>
        </p:nvSpPr>
        <p:spPr>
          <a:xfrm>
            <a:off x="4932360" y="3068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Elena Cu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sellaDiTesto 6"/>
          <p:cNvSpPr/>
          <p:nvPr/>
        </p:nvSpPr>
        <p:spPr>
          <a:xfrm>
            <a:off x="1116000" y="3357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Elisa</a:t>
            </a:r>
            <a:r>
              <a:rPr b="0" lang="it-IT" sz="18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9999"/>
                </a:solidFill>
                <a:latin typeface="Arial"/>
              </a:rPr>
              <a:t>Bugo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9:42:05Z</dcterms:created>
  <dc:creator>Liceo Rinaldini</dc:creator>
  <dc:description/>
  <dc:language>en-US</dc:language>
  <cp:lastModifiedBy>Laura Polenta</cp:lastModifiedBy>
  <dcterms:modified xsi:type="dcterms:W3CDTF">2011-05-08T16:50:35Z</dcterms:modified>
  <cp:revision>20</cp:revision>
  <dc:subject/>
  <dc:title>Diapositiva 1</dc:title>
</cp:coreProperties>
</file>